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1A2F-26C4-4957-8849-94B9F5E3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48C0-1172-4991-BE32-953718A1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5D3-9DEF-477B-AF31-A00ED56D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131-D0A9-4111-8D3C-44F4BDB9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8D83-30B5-4E45-89E1-B18E7A77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CF4-0038-4A7E-964C-0585EFBE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8F30-ABC2-4435-9140-E41F2385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3127-349E-4A87-BE8C-004CA19B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ED7-4522-4ED0-B8ED-B1F33AF1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39AE-465B-4C35-A6F9-79C87115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EC5F-53F1-4E86-932F-6E3BB1B4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B24-271F-4CC9-B4E9-4C1A19DF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003CB-C893-4E73-A6D8-174772918E6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0128C-F074-4F7D-B2B9-ECCCA1E0EC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1:08:21Z</dcterms:created>
  <dc:creator>Marcel Enners</dc:creator>
  <dc:description/>
  <dc:language>en-US</dc:language>
  <cp:lastModifiedBy>Marcel Enners</cp:lastModifiedBy>
  <dcterms:modified xsi:type="dcterms:W3CDTF">2008-10-01T11:09:32Z</dcterms:modified>
  <cp:revision>1</cp:revision>
  <dc:subject/>
  <dc:title>Folie 1</dc:title>
</cp:coreProperties>
</file>